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70966"/>
        <c:axId val="74331781"/>
      </c:barChart>
      <c:catAx>
        <c:axId val="36970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31781"/>
        <c:crosses val="autoZero"/>
        <c:auto val="1"/>
        <c:lblAlgn val="ctr"/>
        <c:lblOffset val="100"/>
        <c:noMultiLvlLbl val="0"/>
      </c:catAx>
      <c:valAx>
        <c:axId val="74331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70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CF6-44D4-48A2-8E57-B013E60B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0B5-05B5-4D80-8ED5-37A8D238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51A-15DD-4668-8199-9790A69E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732-6023-4EFA-BD04-6FAD3530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734-E35A-40EB-8D33-AE117854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111-4374-4A8B-AE98-14045549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DD6-64FA-4E34-A273-4E4E03DD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8DE-19DA-48AD-9E27-7E006146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2A9-D61A-4E8D-94EE-FA0D739C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A1A-A849-47B3-88F1-F91BB6E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F5F-A33B-4F2E-B2A6-DE5D3C2D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945-D351-4AC4-BA5F-75A821DC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66A22-4814-48FC-86C3-590EDD137F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