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317961"/>
        <c:axId val="55451237"/>
      </c:barChart>
      <c:catAx>
        <c:axId val="553179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51237"/>
        <c:crosses val="autoZero"/>
        <c:auto val="1"/>
        <c:lblAlgn val="ctr"/>
        <c:lblOffset val="100"/>
        <c:noMultiLvlLbl val="0"/>
      </c:catAx>
      <c:valAx>
        <c:axId val="554512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179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AD24-4039-42F4-91FB-1EBFC255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11DA-6097-46F8-8855-55D45155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40DF-A0B1-42A6-B57A-E6632B2B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CE8F-E9A9-4FFA-8336-B4A9057D5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55A8-2BC8-4CE1-BFF4-2995F67C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5146-48C3-4124-A8BF-1167AC81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1151-B46C-4E9C-9A9F-BC943EA5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BAB7-910A-4522-898E-D85E6FAF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BA6A-D1E7-41D6-B50D-1FC5F8FC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2C59-A6CA-4EC9-825B-F9E6E1E6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483D-95A1-44ED-8A50-13C85060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36F8-554E-41BF-B25D-89340723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145B9-A9DD-4163-848C-8A68DDBA5B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