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00485"/>
        <c:axId val="27284970"/>
      </c:barChart>
      <c:catAx>
        <c:axId val="234004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84970"/>
        <c:crosses val="autoZero"/>
        <c:auto val="1"/>
        <c:lblAlgn val="ctr"/>
        <c:lblOffset val="100"/>
        <c:noMultiLvlLbl val="0"/>
      </c:catAx>
      <c:valAx>
        <c:axId val="272849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004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1C4-24DC-48A7-9D18-221BA178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33A-DAA5-4F26-9C65-4364F0E9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F3C5-ECEA-4C92-B4AE-D3B1F703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BE9-7B67-4BF0-AB6F-302B13CA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F3B-93A9-4F3F-9184-05297144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829-5AFB-46CD-ACBD-8C161D82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98C-7D2B-4CE4-B9D9-D38E943C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18C-8CB6-443C-A1C1-A5C022C5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11C-8598-4CD3-9BBE-6E916BC1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4FE-ED99-4C9D-8188-1C88CC2E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7C5-F722-4C97-AFCA-42BB2808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3C99-952B-4E8E-BAFC-BA20E151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104F4-447B-4B40-AFDC-8AEE5F8EC9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