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567536"/>
        <c:axId val="55951591"/>
      </c:barChart>
      <c:catAx>
        <c:axId val="93567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51591"/>
        <c:crosses val="autoZero"/>
        <c:auto val="1"/>
        <c:lblAlgn val="ctr"/>
        <c:lblOffset val="100"/>
        <c:noMultiLvlLbl val="0"/>
      </c:catAx>
      <c:valAx>
        <c:axId val="55951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67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D883-DA88-406D-8C27-683E6E8F9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BBA1-369D-4F80-BD79-3471FF33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23EE-ED6C-4093-B4F6-E79D8574C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EA5-BFBC-4DD4-AAB2-41C73EEAC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F9-63CF-42D4-A5E9-B7F0EFC30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C1C-3AE1-4C32-9174-ADD36F59D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1075-21C5-4FCF-8024-2B4041CD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CDB94-4040-44B3-BB66-207EE5E78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966-F221-4975-8994-7EC7046A1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2BE1-DE36-45FD-A1D8-84755AA44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257C-6B08-4F6F-9A24-C2B66DC2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716-807C-4F6F-A4F0-4F4A523F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317472-C4DF-4414-B9A5-EB98879796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