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53218"/>
        <c:axId val="46796728"/>
      </c:barChart>
      <c:catAx>
        <c:axId val="952532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96728"/>
        <c:crosses val="autoZero"/>
        <c:auto val="1"/>
        <c:lblAlgn val="ctr"/>
        <c:lblOffset val="100"/>
        <c:noMultiLvlLbl val="0"/>
      </c:catAx>
      <c:valAx>
        <c:axId val="467967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532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DAA6-D253-4D9D-93B6-719BCCDA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497-93C1-49E4-9F4A-3CFA4BF0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13E-2EFF-48AF-A8F2-C6F32D38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8C44-2AEA-4212-8345-B245E258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920-EF4D-42E5-8167-04CA0449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98E-4281-4A2F-ABBC-BA68AF04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6553-B73D-4FDB-9686-0FD29083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5B9B-1EEB-434F-9F50-857713FD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A41-DA3A-4FE7-80FC-145ABD3A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2364-7E50-4C70-A81D-4EA6AA85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E4D-F1D0-4437-9BC7-2C825E34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71D8-F81F-41DD-95F0-0B072ECE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214BC-70E2-4315-8D54-C82A471CB2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