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75426"/>
        <c:axId val="14940338"/>
      </c:barChart>
      <c:catAx>
        <c:axId val="23475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40338"/>
        <c:crosses val="autoZero"/>
        <c:auto val="1"/>
        <c:lblAlgn val="ctr"/>
        <c:lblOffset val="100"/>
        <c:noMultiLvlLbl val="0"/>
      </c:catAx>
      <c:valAx>
        <c:axId val="14940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75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EAE-5E56-4D4B-8196-6733B6EC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AB7-25D0-4B36-9B61-2B0C68A5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C80-12BC-41CA-8C9A-413F374C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796-DC53-4BD1-B058-6037A1B0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117-0136-49FB-9E74-3A8E9743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8FB-D57B-41F9-A3FF-5A75E3A3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401-47B0-469C-9F5C-0A2DE070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6B2-3F7C-470F-9786-AB84146D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0A1-A42E-4CB5-A6D1-025F6C22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6D2-79E9-41EB-B16F-DC16DBD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55A-D09C-4147-9646-93F762D5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85D-81BA-459B-98AF-9EB5369B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7EEA4-87AD-455B-985A-D6DCC402E4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