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61374"/>
        <c:axId val="34538747"/>
      </c:barChart>
      <c:catAx>
        <c:axId val="7216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38747"/>
        <c:crosses val="autoZero"/>
        <c:auto val="1"/>
        <c:lblAlgn val="ctr"/>
        <c:lblOffset val="100"/>
        <c:noMultiLvlLbl val="0"/>
      </c:catAx>
      <c:valAx>
        <c:axId val="34538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6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5B1-2270-499F-B9B5-24AD3233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60C-336D-49DD-AA72-3EC2DC59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86A-D980-4C96-A3DB-F50ACAD4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BBA-FFFC-4CBE-9A4A-D6D9BE54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54E-1863-48FF-8E31-C7C4085B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9E6-B668-4D8C-A312-7023C7A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0D4-47BC-4033-90C9-3933778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991-F488-45FA-AB4C-460B278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3B6-041C-4162-974A-98D3047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8D4-5693-415C-BD49-D30365D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40C-CD69-4DA9-93BF-9862929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5AF-4978-4D5C-B999-988C1A1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62E95-DC93-420F-B6F9-FA0F2ADE6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