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42145"/>
        <c:axId val="9298979"/>
      </c:barChart>
      <c:catAx>
        <c:axId val="67342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979"/>
        <c:crosses val="autoZero"/>
        <c:auto val="1"/>
        <c:lblAlgn val="ctr"/>
        <c:lblOffset val="100"/>
        <c:noMultiLvlLbl val="0"/>
      </c:catAx>
      <c:valAx>
        <c:axId val="9298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42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238-8920-4F72-B05E-EC6242F1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297-C917-4791-8D42-CC27DDB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DAF-96D9-4733-859B-51D02CDA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791-8779-4D72-A51C-B262C0A7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915-B1C6-4F43-B713-3B66D91C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C3C-7193-40D9-8E75-ACDA831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D09-DF98-4C35-8704-9BD500CF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D3E-16F7-47F0-B549-085F9CE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63C-134E-4DE4-8139-5E7EC344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AFA-ABD1-4F67-B249-C600C3E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60D-7BB2-49EF-9ED0-800A1F0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FAF-27C6-4A40-9169-D6F8212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D34D-77AB-487E-9097-E1FD925D54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