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98728"/>
        <c:axId val="72929804"/>
      </c:barChart>
      <c:catAx>
        <c:axId val="16398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29804"/>
        <c:crosses val="autoZero"/>
        <c:auto val="1"/>
        <c:lblAlgn val="ctr"/>
        <c:lblOffset val="100"/>
        <c:noMultiLvlLbl val="0"/>
      </c:catAx>
      <c:valAx>
        <c:axId val="72929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98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2C5-F6AC-4E0B-8E5A-01D6F973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4A5-F466-4D83-A541-18D9FC31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179-DD3C-4206-94B1-E4657548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C24-75AF-4712-9DCB-06FFF890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6AD-E4B3-42E1-B0F0-23EF9C14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612-ECD9-41D4-9CC7-D9817E70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937-D642-4217-91C4-B3502881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F62-1904-4864-AABB-90A99C54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A6C-8E87-48A2-9CC2-4A3EF487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34F-F871-4593-85EB-E0BDAB6C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BA2-DB8D-4ACA-9079-40180BCB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857-E9F8-4563-AB27-D3957407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55906-E2D6-4653-A0AB-910B4DA7C7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